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D255-9474-4E1F-8A53-606045F3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CE1D-BE23-4E06-AD4B-F00BCEA14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D564-538F-45DC-A06C-1C270B80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1322-83C1-40A7-AFA2-C82452CAA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C4937-98CF-4602-9D42-EB5C41728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05754-1420-4148-904F-074713C4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36E4D-B0EE-4EDF-ADDD-41D7707D2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FF8C3-9C85-4E14-ACA7-09006C8F91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0A7CF-7D1B-4334-8106-85000D886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7DBF3-27BC-4A42-AF75-BDDD4E767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9F5C4-F0F8-40B5-866E-238368914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747C-C834-4DE8-BA03-7C6002EE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70C23-3953-473A-B6A3-4D12B5E00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70CB-B988-4E98-8186-4C3A1311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7006D-2125-45FD-89F3-6178A2D2E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B761F-F5BE-443A-8D2E-FE99768C2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13209-FA43-4374-A1E1-1A6B8C8C2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5489-A720-4C20-9D07-EDD85BC0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23C1-189A-48E1-8782-0155652B6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C3F-5C48-4116-9836-B39FA5B0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CA8-CE9A-4DE3-98CD-7FBA62BB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66B0-2FD1-4635-9974-3D76C2D8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E66-7106-4F8A-A5D5-53C5DED0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B164-9D15-459D-95CF-16E59F4A5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18272-131E-4204-A4CB-9FF45B67BCE3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57AE9-2B6F-4E72-9022-1C63DF707415}" type="slidenum">
              <a:rPr b="0" lang="it-IT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b7e7ff"/>
                </a:solidFill>
                <a:latin typeface="Arial"/>
              </a:rPr>
              <a:t>Grafici database utenti U.M.P.I.S.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entro Coordinamento S.F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9" descr="logo Camper"/>
          <p:cNvPicPr/>
          <p:nvPr/>
        </p:nvPicPr>
        <p:blipFill>
          <a:blip r:embed="rId1"/>
          <a:stretch/>
        </p:blipFill>
        <p:spPr>
          <a:xfrm>
            <a:off x="6499080" y="357120"/>
            <a:ext cx="2644920" cy="9302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C:\Documents and Settings\User\Impostazioni locali\Temp\Via Pavia\Per i siti\comune_di_napoli_politiche_sociali.gif"/>
          <p:cNvPicPr/>
          <p:nvPr/>
        </p:nvPicPr>
        <p:blipFill>
          <a:blip r:embed="rId2"/>
          <a:stretch/>
        </p:blipFill>
        <p:spPr>
          <a:xfrm>
            <a:off x="0" y="0"/>
            <a:ext cx="2357280" cy="162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476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b7e7ff"/>
                </a:solidFill>
                <a:latin typeface="Arial"/>
              </a:rPr>
              <a:t>Disposizioni dei contatti nelle municipalità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600048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it-IT" sz="7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24" descr="municipalita281_380"/>
          <p:cNvPicPr/>
          <p:nvPr/>
        </p:nvPicPr>
        <p:blipFill>
          <a:blip r:embed="rId1"/>
          <a:stretch/>
        </p:blipFill>
        <p:spPr>
          <a:xfrm>
            <a:off x="2638440" y="2241720"/>
            <a:ext cx="4610160" cy="3409920"/>
          </a:xfrm>
          <a:prstGeom prst="rect">
            <a:avLst/>
          </a:prstGeom>
          <a:ln w="0">
            <a:noFill/>
          </a:ln>
        </p:spPr>
      </p:pic>
      <p:sp>
        <p:nvSpPr>
          <p:cNvPr id="89" name="Line 23"/>
          <p:cNvSpPr/>
          <p:nvPr/>
        </p:nvSpPr>
        <p:spPr>
          <a:xfrm flipH="1">
            <a:off x="4438440" y="4413240"/>
            <a:ext cx="10476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Oval 22"/>
          <p:cNvSpPr/>
          <p:nvPr/>
        </p:nvSpPr>
        <p:spPr>
          <a:xfrm>
            <a:off x="4210200" y="5022720"/>
            <a:ext cx="5428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179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21,5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21"/>
          <p:cNvSpPr/>
          <p:nvPr/>
        </p:nvSpPr>
        <p:spPr>
          <a:xfrm flipH="1">
            <a:off x="4981680" y="4194000"/>
            <a:ext cx="85680" cy="57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Oval 20"/>
          <p:cNvSpPr/>
          <p:nvPr/>
        </p:nvSpPr>
        <p:spPr>
          <a:xfrm>
            <a:off x="4753080" y="4727520"/>
            <a:ext cx="5428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386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46,4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19"/>
          <p:cNvSpPr/>
          <p:nvPr/>
        </p:nvSpPr>
        <p:spPr>
          <a:xfrm>
            <a:off x="5172120" y="3718080"/>
            <a:ext cx="476280" cy="1019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Oval 18"/>
          <p:cNvSpPr/>
          <p:nvPr/>
        </p:nvSpPr>
        <p:spPr>
          <a:xfrm>
            <a:off x="5372280" y="4727520"/>
            <a:ext cx="5428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24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2,9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Line 17"/>
          <p:cNvSpPr/>
          <p:nvPr/>
        </p:nvSpPr>
        <p:spPr>
          <a:xfrm>
            <a:off x="5772240" y="3908520"/>
            <a:ext cx="514440" cy="1057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16"/>
          <p:cNvSpPr/>
          <p:nvPr/>
        </p:nvSpPr>
        <p:spPr>
          <a:xfrm>
            <a:off x="6058080" y="4927680"/>
            <a:ext cx="5428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76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9,1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Line 15"/>
          <p:cNvSpPr/>
          <p:nvPr/>
        </p:nvSpPr>
        <p:spPr>
          <a:xfrm flipH="1">
            <a:off x="3676680" y="3870360"/>
            <a:ext cx="790560" cy="1676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3438360" y="5537160"/>
            <a:ext cx="5432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2,3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13"/>
          <p:cNvSpPr/>
          <p:nvPr/>
        </p:nvSpPr>
        <p:spPr>
          <a:xfrm>
            <a:off x="6686640" y="426096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Oval 12"/>
          <p:cNvSpPr/>
          <p:nvPr/>
        </p:nvSpPr>
        <p:spPr>
          <a:xfrm>
            <a:off x="6991200" y="4299120"/>
            <a:ext cx="54324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2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0,2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Line 11"/>
          <p:cNvSpPr/>
          <p:nvPr/>
        </p:nvSpPr>
        <p:spPr>
          <a:xfrm flipV="1">
            <a:off x="5924520" y="2917440"/>
            <a:ext cx="752400" cy="181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Oval 10"/>
          <p:cNvSpPr/>
          <p:nvPr/>
        </p:nvSpPr>
        <p:spPr>
          <a:xfrm>
            <a:off x="6705720" y="2603520"/>
            <a:ext cx="5428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3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0,4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Line 9"/>
          <p:cNvSpPr/>
          <p:nvPr/>
        </p:nvSpPr>
        <p:spPr>
          <a:xfrm flipH="1" flipV="1">
            <a:off x="3648240" y="2556000"/>
            <a:ext cx="723600" cy="457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Oval 8"/>
          <p:cNvSpPr/>
          <p:nvPr/>
        </p:nvSpPr>
        <p:spPr>
          <a:xfrm>
            <a:off x="3152880" y="2193840"/>
            <a:ext cx="5428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19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2,3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7"/>
          <p:cNvSpPr/>
          <p:nvPr/>
        </p:nvSpPr>
        <p:spPr>
          <a:xfrm flipH="1" flipV="1">
            <a:off x="2781360" y="2936880"/>
            <a:ext cx="676080" cy="990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2266920" y="2565360"/>
            <a:ext cx="5428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6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0,7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 flipH="1">
            <a:off x="2781360" y="4756320"/>
            <a:ext cx="704880" cy="599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val 4"/>
          <p:cNvSpPr/>
          <p:nvPr/>
        </p:nvSpPr>
        <p:spPr>
          <a:xfrm>
            <a:off x="2552760" y="5318280"/>
            <a:ext cx="542880" cy="685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118</a:t>
            </a:r>
            <a:br>
              <a:rPr sz="1100"/>
            </a:br>
            <a:r>
              <a:rPr b="0" lang="it-IT" sz="1100" spc="-1" strike="noStrike">
                <a:solidFill>
                  <a:srgbClr val="000000"/>
                </a:solidFill>
                <a:latin typeface="Calibri"/>
              </a:rPr>
              <a:t>14,2%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5"/>
          <p:cNvSpPr/>
          <p:nvPr/>
        </p:nvSpPr>
        <p:spPr>
          <a:xfrm>
            <a:off x="923760" y="2060640"/>
            <a:ext cx="2210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24000" y="1773360"/>
          <a:ext cx="8351640" cy="11745720"/>
        </p:xfrm>
        <a:graphic>
          <a:graphicData uri="http://schemas.openxmlformats.org/drawingml/2006/table">
            <a:tbl>
              <a:tblPr/>
              <a:tblGrid>
                <a:gridCol w="2757240"/>
                <a:gridCol w="412920"/>
                <a:gridCol w="411120"/>
                <a:gridCol w="412560"/>
                <a:gridCol w="411480"/>
                <a:gridCol w="412560"/>
                <a:gridCol w="411120"/>
                <a:gridCol w="412920"/>
                <a:gridCol w="411120"/>
                <a:gridCol w="412560"/>
                <a:gridCol w="365400"/>
                <a:gridCol w="760320"/>
                <a:gridCol w="7603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53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3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933480" y="2070000"/>
          <a:ext cx="2200320" cy="517680"/>
        </p:xfrm>
        <a:graphic>
          <a:graphicData uri="http://schemas.openxmlformats.org/drawingml/2006/table">
            <a:tbl>
              <a:tblPr/>
              <a:tblGrid>
                <a:gridCol w="22003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b7e7ff"/>
                </a:solidFill>
                <a:latin typeface="Arial"/>
              </a:rPr>
              <a:t>Grafico suddivisione utenti per sess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13" name="Object 3"/>
          <p:cNvGraphicFramePr/>
          <p:nvPr/>
        </p:nvGraphicFramePr>
        <p:xfrm>
          <a:off x="826920" y="2276640"/>
          <a:ext cx="6934320" cy="3736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276640"/>
                    <a:ext cx="6934320" cy="373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b7e7ff"/>
                </a:solidFill>
                <a:latin typeface="Arial"/>
              </a:rPr>
              <a:t>Suddivisione utenti per stato civile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16" name="Object 3"/>
          <p:cNvGraphicFramePr/>
          <p:nvPr/>
        </p:nvGraphicFramePr>
        <p:xfrm>
          <a:off x="395280" y="1628640"/>
          <a:ext cx="7921800" cy="4268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628640"/>
                    <a:ext cx="7921800" cy="426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b7e7ff"/>
                </a:solidFill>
                <a:latin typeface="Arial"/>
              </a:rPr>
              <a:t>Suddivisione utenti per titolo di studio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395280" y="1916280"/>
          <a:ext cx="7705800" cy="4151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916280"/>
                    <a:ext cx="7705800" cy="415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b7e7ff"/>
                </a:solidFill>
                <a:latin typeface="Arial"/>
              </a:rPr>
              <a:t>Distribuzione utenti per fascia di età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324000" y="1557360"/>
          <a:ext cx="8569080" cy="4616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557360"/>
                    <a:ext cx="856908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b7e7ff"/>
                </a:solidFill>
                <a:latin typeface="Arial"/>
              </a:rPr>
              <a:t>Suddivisione utenti per Nazionalità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125" name="Object 3"/>
          <p:cNvGraphicFramePr/>
          <p:nvPr/>
        </p:nvGraphicFramePr>
        <p:xfrm>
          <a:off x="250920" y="1484280"/>
          <a:ext cx="8353440" cy="4502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1484280"/>
                    <a:ext cx="8353440" cy="450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09:20:12Z</dcterms:created>
  <dc:creator>.</dc:creator>
  <dc:description/>
  <dc:language>en-US</dc:language>
  <cp:lastModifiedBy> </cp:lastModifiedBy>
  <dcterms:modified xsi:type="dcterms:W3CDTF">2008-03-04T14:22:09Z</dcterms:modified>
  <cp:revision>10</cp:revision>
  <dc:subject/>
  <dc:title>Grafici database utenti U.M.P.I.S.</dc:title>
</cp:coreProperties>
</file>