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203A-2C55-4FBC-9665-217CAC2E9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8D28-83EB-4C0F-B7FF-B2C097A0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3B60-886F-4690-A425-5D2D5EC7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D52F-0EDA-4A41-9921-813B3C3E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0023-95DA-4911-A0A7-80DD77BC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A484-6A01-42DE-962B-1005890F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F01D-D4A9-407A-9C04-CA80EDC6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395B-168B-4AA9-AE0B-124EE5EA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0EA0-C4E7-4530-8C35-091D7F12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3CFA-75C0-4FBE-9C46-24C24E04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E6FD-FC41-4813-A49B-D14D4EE8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D794-80CB-4392-A24C-C25D9CA9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CFF3-30FA-4507-A98C-770BD280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FE4C-91F0-43BE-8763-8924CE0F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1496-9E1B-4D6B-A33F-B8541670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D204-7CA6-4CAD-A2E5-40C3763D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CCAA-0523-46DC-84AC-02D8F1A8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A5AF-229F-42D2-BF81-71EEB9E4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9D10-FAED-4851-B5BD-D908A6FA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5325-58BC-4481-8093-4142550A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CF94-4F54-4836-872F-1530BAD4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8A1-7D88-4930-8D6D-C6133AF7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AD6E-9CB8-4FBF-B2FD-F44E6B25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FE78-79FE-4ECD-BADC-B8581623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F92C-D831-407E-8603-0AB820569F60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0058-21A9-453D-A138-C5B7E404096D}" type="slidenum">
              <a:rPr b="0" lang="it-IT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Il C.P.T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eaeaea"/>
                </a:solidFill>
                <a:latin typeface="Garamond"/>
              </a:rPr>
              <a:t>E’ costituito dai rappresentanti dei datori di Lavoro (ACEN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eaeaea"/>
                </a:solidFill>
                <a:latin typeface="Garamond"/>
              </a:rPr>
              <a:t>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eaeaea"/>
                </a:solidFill>
                <a:latin typeface="Garamond"/>
              </a:rPr>
              <a:t>dai rappresentanti delle tre organizzazioni sindacali  (FILLEA-CGIL, FILCA-CISL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eaeaea"/>
                </a:solidFill>
                <a:latin typeface="Garamond"/>
              </a:rPr>
              <a:t>FENEAL-UIL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Segnaposto piè di pagina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Segnaposto contenuto 4" descr="claudio lavoro 301.jpg"/>
          <p:cNvPicPr/>
          <p:nvPr/>
        </p:nvPicPr>
        <p:blipFill>
          <a:blip r:embed="rId1"/>
          <a:stretch/>
        </p:blipFill>
        <p:spPr>
          <a:xfrm>
            <a:off x="457200" y="500040"/>
            <a:ext cx="8258040" cy="5786640"/>
          </a:xfrm>
          <a:prstGeom prst="rect">
            <a:avLst/>
          </a:prstGeom>
          <a:ln w="0">
            <a:noFill/>
          </a:ln>
        </p:spPr>
      </p:pic>
      <p:sp>
        <p:nvSpPr>
          <p:cNvPr id="146" name="Segnaposto piè di pagina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Segnaposto contenuto 3" descr="claudio lavoro 041.jpg"/>
          <p:cNvPicPr/>
          <p:nvPr/>
        </p:nvPicPr>
        <p:blipFill>
          <a:blip r:embed="rId1"/>
          <a:stretch/>
        </p:blipFill>
        <p:spPr>
          <a:xfrm>
            <a:off x="642960" y="571680"/>
            <a:ext cx="7929720" cy="5857560"/>
          </a:xfrm>
          <a:prstGeom prst="rect">
            <a:avLst/>
          </a:prstGeom>
          <a:ln w="0">
            <a:noFill/>
          </a:ln>
        </p:spPr>
      </p:pic>
      <p:sp>
        <p:nvSpPr>
          <p:cNvPr id="148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Segnaposto contenuto 3" descr="claudio lavoro 093.jpg"/>
          <p:cNvPicPr/>
          <p:nvPr/>
        </p:nvPicPr>
        <p:blipFill>
          <a:blip r:embed="rId1"/>
          <a:stretch/>
        </p:blipFill>
        <p:spPr>
          <a:xfrm>
            <a:off x="622440" y="514440"/>
            <a:ext cx="8021520" cy="5900760"/>
          </a:xfrm>
          <a:prstGeom prst="rect">
            <a:avLst/>
          </a:prstGeom>
          <a:ln w="0">
            <a:noFill/>
          </a:ln>
        </p:spPr>
      </p:pic>
      <p:sp>
        <p:nvSpPr>
          <p:cNvPr id="150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Segnaposto contenuto 3" descr="234a.jpg"/>
          <p:cNvPicPr/>
          <p:nvPr/>
        </p:nvPicPr>
        <p:blipFill>
          <a:blip r:embed="rId1"/>
          <a:stretch/>
        </p:blipFill>
        <p:spPr>
          <a:xfrm>
            <a:off x="928800" y="785880"/>
            <a:ext cx="7286400" cy="5357880"/>
          </a:xfrm>
          <a:prstGeom prst="rect">
            <a:avLst/>
          </a:prstGeom>
          <a:ln w="0">
            <a:noFill/>
          </a:ln>
        </p:spPr>
      </p:pic>
      <p:sp>
        <p:nvSpPr>
          <p:cNvPr id="152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Grazie per l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gentile pazienz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Claudio Cioff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CPT NAPOL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Segnaposto piè di pagina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PIM0578"/>
          <p:cNvPicPr/>
          <p:nvPr/>
        </p:nvPicPr>
        <p:blipFill>
          <a:blip r:embed="rId1"/>
          <a:stretch/>
        </p:blipFill>
        <p:spPr>
          <a:xfrm>
            <a:off x="250920" y="260280"/>
            <a:ext cx="8574120" cy="57927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4716360" y="1125360"/>
            <a:ext cx="360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eaeaea"/>
                </a:solidFill>
                <a:latin typeface="Verdana"/>
              </a:rPr>
              <a:t>Pubblicazione di materiale di informazione e propaganda sui temi della salute e della sicurezz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eaeaea"/>
                </a:solidFill>
                <a:latin typeface="Verdana"/>
              </a:rPr>
              <a:t>Corsi di formazione per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eaeaea"/>
                </a:solidFill>
                <a:latin typeface="Verdana"/>
              </a:rPr>
              <a:t>RSPP – RLS – ADDETTI EMERGENZA  e PRIMO SOCCORS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eaeaea"/>
                </a:solidFill>
                <a:latin typeface="Verdana"/>
              </a:rPr>
              <a:t>Consulenza sui luoghi di lavoro per favorire l’attuazione delle norme di sicurezza e sulle misure prevenzionali da adottare nei cantieri edil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187280" y="301140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776240" y="292428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80808"/>
                </a:solidFill>
                <a:latin typeface="Verdana"/>
              </a:rPr>
              <a:t>Cosa fa il C.P.T.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Segnaposto piè di pagina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COLLABORAZIONI CON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Picture 4" descr="HPIM0063"/>
          <p:cNvPicPr/>
          <p:nvPr/>
        </p:nvPicPr>
        <p:blipFill>
          <a:blip r:embed="rId1"/>
          <a:stretch/>
        </p:blipFill>
        <p:spPr>
          <a:xfrm>
            <a:off x="768240" y="1600200"/>
            <a:ext cx="2874960" cy="4530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3857760" y="1599840"/>
            <a:ext cx="4829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eaeaea"/>
                </a:solidFill>
                <a:latin typeface="Verdana"/>
              </a:rPr>
              <a:t>RACCOLTA NOTIFICHE PRELIMINARI CON: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DIREZIONE PROVINCIALE DEL LAVORO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ASL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eaeaea"/>
                </a:solidFill>
                <a:latin typeface="Verdana"/>
              </a:rPr>
              <a:t>FORMAZIONE CON: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INAIL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SCUOLE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eaeaea"/>
                </a:solidFill>
                <a:latin typeface="Verdana"/>
              </a:rPr>
              <a:t>CONSULENZA  NEI  CANTIERI  CON: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SIRENA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Segnaposto piè di pagina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Nello specifico con SIRENA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71680" y="1599840"/>
            <a:ext cx="8115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Verdana"/>
              </a:rPr>
              <a:t>IL PROTOCOLLO PREVEDE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Verdana"/>
              </a:rPr>
              <a:t>CONSULENZA NEI CANTIERI ESPLETATA MEDIANTE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Verdana"/>
              </a:rPr>
              <a:t>1 SOPRALLUOGO CONGIUNT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Verdana"/>
              </a:rPr>
              <a:t>MONITORAGGIO SVOLGIMENTO ATTIVITA’ CANTIER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Verdana"/>
              </a:rPr>
              <a:t>EVENTUALE SEGNALAZIONE CRITICITA’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ED ECCO LE MAGGIORI CRITICITA’…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42960" y="1599840"/>
            <a:ext cx="8043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SOPRALLUOGHI  ESEGUITI nell’ ambito del COMUNE NAPOLI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CANTIERI CENTRO 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126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CANTIERI PERIFERIE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  5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CRITICITA’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Cantieri Centro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126 cantier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271 sopralluogh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1354 infrazioni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NUMERO INFRAZIONI PER SOPRALLUOGO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TOTALE 1354/271       (media 5)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1 visita: 906/113    (media 8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2 visita: 312/97      (media 3,2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3 visita: 136/71      (media 2,2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Cantieri Periferie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52 cantier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102 sopralluogh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835 infrazion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NUMERO INFRAZIONI PER SOPRALLUOGO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TOTALE 835/102       (media 8.18)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1 visita: 541/46      (media 11,7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2 visita: 208/35      (media   6,0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3 visita:   86/21      (media   4,1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TIPOLOGIE DI INFRAZIONI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42960" y="1599840"/>
            <a:ext cx="8043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MANCANZA DEGLI ADEMPIMENTI o LORO NON CONFORMITA’ ALLE NORME . 51%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MANCATO UTILIZZO D.P.I............ 13%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PERICOLO CADUTA DALL’ALTO……. 15%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ALTRE…………………………………………….. 21%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L’impegno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14240" y="1599840"/>
            <a:ext cx="7972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Seminari informativi per datori di 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lavoro e professionisti del settor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Attività di informazione e formazione 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lavoratori mediante realizzazione 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percorsi formativi e simulazioni 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multimediali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attività di formazione nelle scuo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L’obiettivo da raggiungere </a:t>
            </a:r>
            <a:br>
              <a:rPr sz="2800"/>
            </a:b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attraverso la distruzione di situazioni </a:t>
            </a:r>
            <a:br>
              <a:rPr sz="2800"/>
            </a:b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del tipo:……….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Segnaposto contenuto 12" descr="claudio lavoro 351.jpg"/>
          <p:cNvPicPr/>
          <p:nvPr/>
        </p:nvPicPr>
        <p:blipFill>
          <a:blip r:embed="rId1"/>
          <a:stretch/>
        </p:blipFill>
        <p:spPr>
          <a:xfrm>
            <a:off x="1666800" y="1600200"/>
            <a:ext cx="6067440" cy="4530600"/>
          </a:xfrm>
          <a:prstGeom prst="rect">
            <a:avLst/>
          </a:prstGeom>
          <a:ln w="0">
            <a:noFill/>
          </a:ln>
        </p:spPr>
      </p:pic>
      <p:sp>
        <p:nvSpPr>
          <p:cNvPr id="144" name="Segnaposto piè di pagina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14:22:26Z</dcterms:created>
  <dc:creator>Cioffi</dc:creator>
  <dc:description/>
  <dc:language>en-US</dc:language>
  <cp:lastModifiedBy> </cp:lastModifiedBy>
  <dcterms:modified xsi:type="dcterms:W3CDTF">2010-01-20T11:54:30Z</dcterms:modified>
  <cp:revision>22</cp:revision>
  <dc:subject/>
  <dc:title>Il Comitato Paritetico Territoriale per la Prevenzione Infortuni, l’Igiene e l’Ambiente di Lavoro  della provincia di Napoli</dc:title>
</cp:coreProperties>
</file>