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A25-E980-4161-A1A5-476E1838A9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Responsabilità del servizio di Prevenzione e Protezione è affidata all’esterno a TECNOCAMERE Società di Consulenza Tecnica del Sistema Came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FDC-DF7D-49CD-B89C-AD7537A1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64B-FA8F-4E9D-A0C1-79ACCA3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BFD-A507-4BFE-BD23-67D19EC8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911-9D16-409A-8190-AC8D8208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2577-A005-4F36-8C6C-81D3F90B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249B-7323-4376-B6EF-7C64810F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52D1-BE92-4C78-B61F-CC35A321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01B2-DAE8-4A68-A2AE-23DCCC67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ACC2-1F91-43E3-95C7-28E364A4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CE76-D164-43B2-80D3-82728BFC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90C3-D67D-4E7D-A067-028AF65C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AEA-58CC-434D-A02C-BC7B8484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95EF-E078-4431-B2B7-EE1E9FC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8848-B74D-438C-A2A9-472B1BDF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A151-7117-44EE-9BCC-8B6FC97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FB65-84AF-4C7B-8A06-C132D470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7C06-667F-4165-946A-E9ED02CF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3A5-C030-4929-856A-9EBEBEAC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8ED-F166-4481-849F-810A4C39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F8E-E983-40F2-ADD5-266DAB9D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20E-21F8-4E7C-AF9E-76FB0BAD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5C3-4262-41BE-A53D-B0531407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E43-6B77-4835-B60C-0760E220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BE0-AE39-4F2A-93F6-4A1C852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5BDE-6100-4540-8BC0-3D10B1550E3E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F5C4-C0A1-435A-BCBC-9FD390FBF4DF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74311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A GESTIONE DELLA SICUREZZA SUI LUOGHI DI LAVORO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SPETTI TECNICI E TESTIMONIANZ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1640" y="350028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Un’esperienza in tema di organizzazione della sicurezza in un Ente Pubblic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59960" y="5734080"/>
            <a:ext cx="799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Tahoma"/>
              </a:rPr>
              <a:t>Avv. Mario Esti – Dirigente C.C.I.A.A. di Napoli – Area Gestione del Personale e della Sicurezza del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89856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SP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Servizio di Prevenzione e Protezione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atore di Lavoro: Avv. Mario Est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SPP Esterno: Geom. Piero Lova (TECNOCAMERE SCpA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Addetto Esterno: Ing. Giuseppe Tammaro (TECNOCAMERE SCpA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Medico Comp.: Dott. Paolo Chiarolanz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2 RLS:  Giovanna Cuppone, Carmela Albig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di: 3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Attività: Uffic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Lavoratori: circa 14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Addetti Antincendio: 5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Addetti Primo Soccorso: 5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549360"/>
            <a:ext cx="77004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758-DC47-4232-A9CA-BB8DEF4C51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Interventi nella SEDE di Via S.Aspreno (P.zza G.Bovio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strisce antiscivolo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corrimano ad altezza 1 metro lungo la balaustra interna del secondo piano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impianto di allertamento in caso di incendio/evacuazione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illuminazione di emergenza, cartellonistica di sicurezza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740720" y="1268280"/>
            <a:ext cx="91116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EE0-7C4B-489A-8339-5F594C7914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he e misura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ilevazioni fonometriche nel salone sportelli pubblico del Registro delle Imprese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Verifiche impianti di terra ai sensi del DPR 462/01 (ultima, in CORSO)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ilevazione del gas RADON ai sensi del DLgs 241/00 in “Attuazione della direttiva 96/29/EURATOM in materia di protezione sanitaria della popolazione e dei lavoratori contro i rischi derivanti dalle radiazioni ionizzanti”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549360"/>
            <a:ext cx="838440" cy="8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739-D655-4A05-A56A-D61ED58072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tutti i lavorato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60360" y="2903400"/>
            <a:ext cx="2032200" cy="2901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2036520" cy="2882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300720" y="2933640"/>
            <a:ext cx="1932120" cy="28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7740720" y="549360"/>
            <a:ext cx="911160" cy="90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7B7-19C7-47FD-960A-B428B908AE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so di formazione per addetti antincendio Rischio Medio – ai sensi del DM 10 marzo 2008 (settembre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so di formazione per addetti Primo Soccorso – ai sensi del DM 388/2003 (ottobre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85080" y="549360"/>
            <a:ext cx="76680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7CF-E7A5-49A3-9F79-DE37199559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a 200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rso di formazione per tutti i lavorato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rso di formazione per dirigenti e capiserviz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Prove di evacuazione edific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65556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E02-CE55-408D-9C95-219F1366CF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6920" y="1555560"/>
            <a:ext cx="66978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Grazie per l’attenzio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Avv. Mario Est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Dirigente Area Personale e Sicurezza sul Lavor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mario.esti@nap.camcom.it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65556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C86-B2BD-4658-A985-F0444FAF4A5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39:03Z</dcterms:created>
  <dc:creator>Giuseppe Tammaro</dc:creator>
  <dc:description/>
  <dc:language>en-US</dc:language>
  <cp:lastModifiedBy>Eventi</cp:lastModifiedBy>
  <dcterms:modified xsi:type="dcterms:W3CDTF">2010-01-21T06:23:46Z</dcterms:modified>
  <cp:revision>10</cp:revision>
  <dc:subject/>
  <dc:title>LA GESTIONE DELLA SICUREZZA SUI LUOGHI DI LAVORO: ASPETTI TECNICI E TESTIMONIANZE</dc:title>
</cp:coreProperties>
</file>