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638925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8702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3160" y="3816720"/>
            <a:ext cx="8702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248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73160" y="3816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2480" y="3816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15440" y="990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57720" y="990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73160" y="3816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15440" y="3816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57720" y="3816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73160" y="990720"/>
            <a:ext cx="870264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8702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4246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2480" y="990720"/>
            <a:ext cx="4246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1000" y="104760"/>
            <a:ext cx="884232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2480" y="990720"/>
            <a:ext cx="4246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73160" y="3816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4246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248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2480" y="3816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248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73160" y="3816720"/>
            <a:ext cx="8702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17280" cy="6862680"/>
          </a:xfrm>
          <a:custGeom>
            <a:avLst/>
            <a:gdLst/>
            <a:ahLst/>
            <a:rect l="l" t="t" r="r" b="b"/>
            <a:pathLst>
              <a:path w="6246" h="4323">
                <a:moveTo>
                  <a:pt x="0" y="4320"/>
                </a:moveTo>
                <a:lnTo>
                  <a:pt x="0" y="2"/>
                </a:lnTo>
                <a:lnTo>
                  <a:pt x="581" y="0"/>
                </a:lnTo>
                <a:lnTo>
                  <a:pt x="576" y="4173"/>
                </a:lnTo>
                <a:lnTo>
                  <a:pt x="6246" y="4176"/>
                </a:lnTo>
                <a:lnTo>
                  <a:pt x="6246" y="4323"/>
                </a:lnTo>
                <a:lnTo>
                  <a:pt x="0" y="4320"/>
                </a:lnTo>
                <a:close/>
              </a:path>
            </a:pathLst>
          </a:custGeom>
          <a:solidFill>
            <a:srgbClr val="e04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Lucida Sans Unicode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73160" y="990720"/>
            <a:ext cx="8702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Click to edit the outline text format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1" marL="577800" indent="-288720">
              <a:lnSpc>
                <a:spcPct val="90000"/>
              </a:lnSpc>
              <a:spcBef>
                <a:spcPts val="901"/>
              </a:spcBef>
              <a:buClr>
                <a:srgbClr val="f40000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2" marL="1184400" indent="-228600">
              <a:lnSpc>
                <a:spcPct val="90000"/>
              </a:lnSpc>
              <a:spcBef>
                <a:spcPts val="901"/>
              </a:spcBef>
              <a:buClr>
                <a:srgbClr val="f400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3" marL="1603440" indent="-228600">
              <a:lnSpc>
                <a:spcPct val="90000"/>
              </a:lnSpc>
              <a:spcBef>
                <a:spcPts val="901"/>
              </a:spcBef>
              <a:buClr>
                <a:srgbClr val="f400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Fourth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400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Fifth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Sixth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Seventh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7080"/>
            <a:ext cx="907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6115-128C-4842-A73A-74BE3D818FC5}" type="slidenum">
              <a:rPr b="1" lang="it-IT" sz="1800" spc="-1" strike="noStrike">
                <a:solidFill>
                  <a:srgbClr val="fffff3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105760" y="5827680"/>
            <a:ext cx="1600200" cy="7430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92280"/>
            <a:ext cx="9906120" cy="0"/>
          </a:xfrm>
          <a:prstGeom prst="line">
            <a:avLst/>
          </a:prstGeom>
          <a:ln w="38160">
            <a:solidFill>
              <a:srgbClr val="e044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15840"/>
            <a:ext cx="9905760" cy="0"/>
          </a:xfrm>
          <a:prstGeom prst="line">
            <a:avLst/>
          </a:prstGeom>
          <a:ln w="38160">
            <a:solidFill>
              <a:srgbClr val="e044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57400" y="6593040"/>
            <a:ext cx="797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Unicode"/>
              </a:rPr>
              <a:t>Dipartimento di Napoli -Dipartimento Processi Organizzativ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8702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6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81000" y="43560"/>
            <a:ext cx="8842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00"/>
                </a:solidFill>
                <a:latin typeface="Comic Sans MS"/>
              </a:rPr>
              <a:t>IL RISCHIO ELETTRICO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39800" y="1413000"/>
            <a:ext cx="7128000" cy="4995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065240" y="765000"/>
            <a:ext cx="820908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Avete mai giocato così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81000" y="43560"/>
            <a:ext cx="8842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Comic Sans MS"/>
              </a:rPr>
              <a:t>GLI ELABORATI DOCUMENTALI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3" name=""/>
          <p:cNvSpPr/>
          <p:nvPr/>
        </p:nvSpPr>
        <p:spPr>
          <a:xfrm>
            <a:off x="1065240" y="1052640"/>
            <a:ext cx="4248000" cy="1311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000000"/>
                </a:solidFill>
                <a:latin typeface="Comic Sans MS"/>
              </a:rPr>
              <a:t>IL DV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21240" y="2924280"/>
            <a:ext cx="3600360" cy="1311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000000"/>
                </a:solidFill>
                <a:latin typeface="Comic Sans MS"/>
              </a:rPr>
              <a:t>IL PD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 rot="20743800">
            <a:off x="1136520" y="2276640"/>
            <a:ext cx="3345120" cy="3398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2485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92520" y="4797360"/>
            <a:ext cx="5313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li studenti formati parteciperanno alla prova di evacuazione con compiti ben precisi (aprifila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Comic Sans MS"/>
              </a:rPr>
              <a:t>Prossimamente su questi schermi….</a:t>
            </a: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9" name=""/>
          <p:cNvSpPr/>
          <p:nvPr/>
        </p:nvSpPr>
        <p:spPr>
          <a:xfrm>
            <a:off x="920880" y="907920"/>
            <a:ext cx="741672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Comic Sans MS"/>
              </a:rPr>
              <a:t>Scuola elementare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Comic Sans MS"/>
              </a:rPr>
              <a:t>Scuola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Comic Sans MS"/>
              </a:rPr>
              <a:t>Liceo classico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68520" y="3141720"/>
            <a:ext cx="1081080" cy="431640"/>
          </a:xfrm>
          <a:prstGeom prst="rightArrow">
            <a:avLst>
              <a:gd name="adj1" fmla="val 50000"/>
              <a:gd name="adj2" fmla="val 62615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73600" y="981000"/>
            <a:ext cx="1081080" cy="43200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97240" y="5373720"/>
            <a:ext cx="1081080" cy="431640"/>
          </a:xfrm>
          <a:prstGeom prst="rightArrow">
            <a:avLst>
              <a:gd name="adj1" fmla="val 50000"/>
              <a:gd name="adj2" fmla="val 62615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89400" y="907200"/>
            <a:ext cx="4402080" cy="824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cartellone esemplificat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delle principali fonti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24520" y="2924280"/>
            <a:ext cx="4537080" cy="45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L’albero della preven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81600" y="5157720"/>
            <a:ext cx="4608360" cy="45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gli elaborati DVR e P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8702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60200" y="0"/>
            <a:ext cx="100663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36520" y="1844640"/>
            <a:ext cx="7632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0000"/>
                </a:solidFill>
                <a:latin typeface="Comic Sans MS"/>
              </a:rPr>
              <a:t>grazie per l’attenz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6093000"/>
            <a:ext cx="54831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Lucida Sans Unicode"/>
              </a:rPr>
              <a:t>Dott.ssa Maria Giovanna Dovetto</a:t>
            </a:r>
            <a:endParaRPr b="0" lang="en-US" sz="2000" spc="-1" strike="noStrike">
              <a:solidFill>
                <a:srgbClr val="00225e"/>
              </a:solidFill>
              <a:latin typeface="Lucida Sans Unicode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00160" y="189000"/>
            <a:ext cx="4665600" cy="1718280"/>
            <a:chOff x="200160" y="189000"/>
            <a:chExt cx="4665600" cy="171828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00160" y="189000"/>
              <a:ext cx="3657600" cy="16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554120" y="1601640"/>
              <a:ext cx="331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6699"/>
                  </a:solidFill>
                  <a:latin typeface="Lucida Sans Unicode"/>
                </a:rPr>
                <a:t>Dipartimento di Napo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88880" y="1989000"/>
            <a:ext cx="8925120" cy="136872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PROGETTO PILOTA DI 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FORMAZIONE IN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“SCUOLA SICUR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24160" y="4005360"/>
            <a:ext cx="3313080" cy="189072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Comic Sans MS"/>
              </a:rPr>
              <a:t>IL TERRITORIO</a:t>
            </a: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5" name=""/>
          <p:cNvSpPr/>
          <p:nvPr/>
        </p:nvSpPr>
        <p:spPr>
          <a:xfrm>
            <a:off x="1424160" y="836640"/>
            <a:ext cx="74167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49240" y="692280"/>
            <a:ext cx="5904000" cy="590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5400000">
            <a:off x="7688520" y="1484640"/>
            <a:ext cx="1008360" cy="2737080"/>
          </a:xfrm>
          <a:prstGeom prst="downArrowCallout">
            <a:avLst>
              <a:gd name="adj1" fmla="val 25002"/>
              <a:gd name="adj2" fmla="val 25000"/>
              <a:gd name="adj3" fmla="val 45240"/>
              <a:gd name="adj4" fmla="val 66667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44320" y="2363760"/>
            <a:ext cx="167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Quart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hia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4619600">
            <a:off x="2936520" y="1629000"/>
            <a:ext cx="1008000" cy="792000"/>
          </a:xfrm>
          <a:prstGeom prst="leftArrow">
            <a:avLst>
              <a:gd name="adj1" fmla="val 50000"/>
              <a:gd name="adj2" fmla="val 31818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81000" y="-17640"/>
            <a:ext cx="8842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LE SCUO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1" name=""/>
          <p:cNvSpPr/>
          <p:nvPr/>
        </p:nvSpPr>
        <p:spPr>
          <a:xfrm>
            <a:off x="200160" y="765000"/>
            <a:ext cx="2736720" cy="136872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4520" y="1125360"/>
            <a:ext cx="230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ceo classico “Umberto 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40160" y="1484280"/>
            <a:ext cx="2736720" cy="122400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4520" y="1628640"/>
            <a:ext cx="251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cuola Media “Tito Livi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26120" y="692280"/>
            <a:ext cx="2880000" cy="151272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6120" y="1197000"/>
            <a:ext cx="2880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cuola elementare “E.De Amici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3007800" y="475560"/>
            <a:ext cx="3745080" cy="865080"/>
          </a:xfrm>
          <a:custGeom>
            <a:avLst/>
            <a:gdLst>
              <a:gd name="textAreaLeft" fmla="*/ 0 w 3745080"/>
              <a:gd name="textAreaRight" fmla="*/ 3745440 w 374508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33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205000"/>
            <a:ext cx="2720880" cy="3816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276640"/>
            <a:ext cx="3166920" cy="37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ambiente scolastico come luogo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dentificazione e monitoraggio dei fattori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dazione di elaborati tecnici (DVR e P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42120" y="2349360"/>
            <a:ext cx="2664000" cy="3816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29600" y="2421000"/>
            <a:ext cx="2576520" cy="37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scuola, la casa, il percorso casa/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oscenza dei fattori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isure preventive comportamen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92520" y="3084480"/>
            <a:ext cx="4392360" cy="3384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scuola, la casa, la palestra, la s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dividuazione delle principali cause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oscenza delle opportune misure comportamentali prev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81000" y="-11520"/>
            <a:ext cx="8842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I PRINCIPALI ARGOMENTI</a:t>
            </a:r>
            <a:endParaRPr b="1" lang="en-US" sz="40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0520" y="620640"/>
            <a:ext cx="8785080" cy="5904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1)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a sicurezza nei luoghi di vita e di lavoro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ondamenti normativi</a:t>
            </a:r>
            <a:endParaRPr b="0" lang="en-US" sz="20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2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Gli spostamenti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scuola, la casa, la strada</a:t>
            </a:r>
            <a:endParaRPr b="0" lang="en-US" sz="20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3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’elettricità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schio elettrocuzione</a:t>
            </a:r>
            <a:endParaRPr b="0" lang="en-US" sz="20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4)</a:t>
            </a:r>
            <a:r>
              <a:rPr b="1" lang="it-IT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l fuoco e l’acqua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incendio e allagamento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5)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L’ergonomia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lvl="1" marL="6699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6)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I laboratori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chimico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7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l Documento di valutazione dei rischi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8)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Il Piano di emergenza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04760"/>
            <a:ext cx="10066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Comic Sans MS"/>
              </a:rPr>
              <a:t>LA COMUNICAZIONE</a:t>
            </a: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6" name=""/>
          <p:cNvSpPr/>
          <p:nvPr/>
        </p:nvSpPr>
        <p:spPr>
          <a:xfrm>
            <a:off x="1784520" y="1413000"/>
            <a:ext cx="7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1197000"/>
            <a:ext cx="2305080" cy="1368360"/>
          </a:xfrm>
          <a:custGeom>
            <a:avLst/>
            <a:gdLst>
              <a:gd name="textAreaLeft" fmla="*/ 88560 w 2305080"/>
              <a:gd name="textAreaRight" fmla="*/ 2216520 w 230508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36383" h="21600">
                <a:moveTo>
                  <a:pt x="0" y="0"/>
                </a:moveTo>
                <a:lnTo>
                  <a:pt x="36383" y="0"/>
                </a:lnTo>
                <a:lnTo>
                  <a:pt x="36383" y="21600"/>
                </a:lnTo>
                <a:lnTo>
                  <a:pt x="0" y="21600"/>
                </a:lnTo>
                <a:close/>
              </a:path>
              <a:path fill="lightenLess" w="36383" h="21600">
                <a:moveTo>
                  <a:pt x="0" y="0"/>
                </a:moveTo>
                <a:lnTo>
                  <a:pt x="36383" y="0"/>
                </a:lnTo>
                <a:lnTo>
                  <a:pt x="34983" y="1400"/>
                </a:lnTo>
                <a:lnTo>
                  <a:pt x="1400" y="1400"/>
                </a:lnTo>
                <a:close/>
              </a:path>
              <a:path fill="darken" w="36383" h="21600">
                <a:moveTo>
                  <a:pt x="36383" y="0"/>
                </a:moveTo>
                <a:lnTo>
                  <a:pt x="36383" y="21600"/>
                </a:lnTo>
                <a:lnTo>
                  <a:pt x="34983" y="20200"/>
                </a:lnTo>
                <a:lnTo>
                  <a:pt x="34983" y="1400"/>
                </a:lnTo>
                <a:close/>
              </a:path>
              <a:path fill="darkenLess" w="36383" h="21600">
                <a:moveTo>
                  <a:pt x="36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983" y="20200"/>
                </a:lnTo>
                <a:close/>
              </a:path>
              <a:path fill="lighten" w="36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383" h="21600">
                <a:moveTo>
                  <a:pt x="11185" y="7301"/>
                </a:moveTo>
                <a:lnTo>
                  <a:pt x="12099" y="7301"/>
                </a:lnTo>
                <a:lnTo>
                  <a:pt x="12482" y="7667"/>
                </a:lnTo>
                <a:lnTo>
                  <a:pt x="21690" y="7667"/>
                </a:lnTo>
                <a:lnTo>
                  <a:pt x="22247" y="8224"/>
                </a:lnTo>
                <a:lnTo>
                  <a:pt x="22247" y="8772"/>
                </a:lnTo>
                <a:lnTo>
                  <a:pt x="24092" y="8772"/>
                </a:lnTo>
                <a:lnTo>
                  <a:pt x="24458" y="8224"/>
                </a:lnTo>
                <a:lnTo>
                  <a:pt x="25198" y="8224"/>
                </a:lnTo>
                <a:lnTo>
                  <a:pt x="25198" y="13376"/>
                </a:lnTo>
                <a:lnTo>
                  <a:pt x="24458" y="13376"/>
                </a:lnTo>
                <a:lnTo>
                  <a:pt x="24092" y="12828"/>
                </a:lnTo>
                <a:lnTo>
                  <a:pt x="22247" y="12828"/>
                </a:lnTo>
                <a:lnTo>
                  <a:pt x="22247" y="14107"/>
                </a:lnTo>
                <a:lnTo>
                  <a:pt x="12664" y="14107"/>
                </a:lnTo>
                <a:lnTo>
                  <a:pt x="12664" y="9877"/>
                </a:lnTo>
                <a:lnTo>
                  <a:pt x="12482" y="9877"/>
                </a:lnTo>
                <a:lnTo>
                  <a:pt x="12099" y="10243"/>
                </a:lnTo>
                <a:lnTo>
                  <a:pt x="11185" y="1024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36520" y="981000"/>
            <a:ext cx="2376720" cy="8240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PERCEZIONE DEL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8434200">
            <a:off x="4304880" y="1341360"/>
            <a:ext cx="1079640" cy="1008000"/>
          </a:xfrm>
          <a:custGeom>
            <a:avLst/>
            <a:gdLst>
              <a:gd name="textAreaLeft" fmla="*/ 309960 w 1079640"/>
              <a:gd name="textAreaRight" fmla="*/ 924840 w 1079640"/>
              <a:gd name="textAreaTop" fmla="*/ 580680 h 1008000"/>
              <a:gd name="textAreaBottom" fmla="*/ 8636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33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6880" y="907920"/>
            <a:ext cx="23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FATTORI</a:t>
            </a:r>
            <a:r>
              <a:rPr b="0" lang="it-IT" sz="2400" spc="-1" strike="noStrike">
                <a:solidFill>
                  <a:srgbClr val="003366"/>
                </a:solidFill>
                <a:latin typeface="Verdana"/>
              </a:rPr>
              <a:t> OGG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05600" y="2205000"/>
            <a:ext cx="266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FATTORI SOGG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1600" y="836640"/>
            <a:ext cx="2089080" cy="1079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76880" y="2133720"/>
            <a:ext cx="2592360" cy="1008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96880" y="3357720"/>
            <a:ext cx="7848720" cy="824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Lo sforzo educativo deve esser teso ad avvicinar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la percezione soggettiva alla percezione ogget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28880" y="4653000"/>
            <a:ext cx="3168720" cy="45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Modulo circo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Comic Sans MS"/>
              </a:rPr>
              <a:t>DIDATTICHE ATTIVE</a:t>
            </a: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7" name=""/>
          <p:cNvSpPr/>
          <p:nvPr/>
        </p:nvSpPr>
        <p:spPr>
          <a:xfrm>
            <a:off x="1136520" y="620640"/>
            <a:ext cx="8425080" cy="824040"/>
          </a:xfrm>
          <a:prstGeom prst="rect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problem solving, brainstorming, disegno, role playing, videogio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24160" y="1700280"/>
            <a:ext cx="324000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s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insi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reg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essen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zero peric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zero inci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amare la 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08160" y="1700280"/>
            <a:ext cx="914400" cy="4897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84880" y="2133720"/>
            <a:ext cx="187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Verdana"/>
              </a:rPr>
              <a:t>II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1000" y="43560"/>
            <a:ext cx="8842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Comic Sans MS"/>
              </a:rPr>
              <a:t>spostarsi… in </a:t>
            </a:r>
            <a:r>
              <a:rPr b="1" i="1" lang="it-IT" sz="3200" spc="-1" strike="noStrike">
                <a:solidFill>
                  <a:srgbClr val="cc3300"/>
                </a:solidFill>
                <a:latin typeface="Comic Sans MS"/>
              </a:rPr>
              <a:t>prospettiva</a:t>
            </a:r>
            <a:r>
              <a:rPr b="1" lang="it-IT" sz="3200" spc="-1" strike="noStrike">
                <a:solidFill>
                  <a:srgbClr val="cc3300"/>
                </a:solidFill>
                <a:latin typeface="Comic Sans MS"/>
              </a:rPr>
              <a:t> della sicurezza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9800" y="907920"/>
            <a:ext cx="7274160" cy="5400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68520" y="907920"/>
            <a:ext cx="7416720" cy="54007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568520" y="907920"/>
            <a:ext cx="741672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800px-Piero_della_Francesca_Ideal_City"/>
          <p:cNvPicPr/>
          <p:nvPr/>
        </p:nvPicPr>
        <p:blipFill>
          <a:blip r:embed="rId1"/>
          <a:stretch/>
        </p:blipFill>
        <p:spPr>
          <a:xfrm>
            <a:off x="272880" y="1197000"/>
            <a:ext cx="9417240" cy="2378160"/>
          </a:xfrm>
          <a:prstGeom prst="rect">
            <a:avLst/>
          </a:prstGeom>
          <a:ln w="76320">
            <a:solidFill>
              <a:srgbClr val="b2b2b2"/>
            </a:solidFill>
            <a:miter/>
          </a:ln>
        </p:spPr>
      </p:pic>
      <p:sp>
        <p:nvSpPr>
          <p:cNvPr id="96" name="Text Box 5"/>
          <p:cNvSpPr/>
          <p:nvPr/>
        </p:nvSpPr>
        <p:spPr>
          <a:xfrm>
            <a:off x="920880" y="0"/>
            <a:ext cx="8985240" cy="579960"/>
          </a:xfrm>
          <a:prstGeom prst="rect">
            <a:avLst/>
          </a:prstGeom>
          <a:solidFill>
            <a:srgbClr val="ff9900"/>
          </a:solidFill>
          <a:ln w="38160">
            <a:solidFill>
              <a:srgbClr val="f6c9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CITTA’ IDE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992160" y="3789360"/>
            <a:ext cx="835344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onimo fiorentino, databile tra il 1480 e il 14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Galleria Nazionale delle Marche Urb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2216160" y="5104440"/>
            <a:ext cx="5905440" cy="824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 ora provateci voi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a scuola idea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7T16:20:31Z</dcterms:created>
  <dc:creator>Maurizio Castagna</dc:creator>
  <dc:description/>
  <dc:language>en-US</dc:language>
  <cp:lastModifiedBy>ASYS</cp:lastModifiedBy>
  <cp:lastPrinted>2002-12-10T11:15:17Z</cp:lastPrinted>
  <dcterms:modified xsi:type="dcterms:W3CDTF">2010-01-19T10:17:46Z</dcterms:modified>
  <cp:revision>648</cp:revision>
  <dc:subject/>
  <dc:title>Analisi delle esigenze</dc:title>
</cp:coreProperties>
</file>