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13EF-BE3D-4FD3-9BB5-35B46419C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9311-2158-4D40-8DB0-D47AAC96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4DE7-B059-4C56-867D-5A749CF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747A-0E06-43D5-975D-3E58F0AA2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05EDC-22C1-442B-87CF-A8B8C50F95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1EC0C-17D7-4E53-8399-EC104BF0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FA7AD-A05C-48CE-9D9A-2B11508B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F0E51-B348-490E-A465-BF5BD9F1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EBCBE-BA75-4523-B623-E0A0C779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B1E73-425E-4B6E-B27E-48B333B0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B608E-E148-4CF8-8D69-CA7380CE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46AB-CE68-48F3-AD26-A4ECB54C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7BC01-C103-4489-BAE0-90F308ED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7443E-D51F-4BD9-98D2-13D3B5D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8C68-70FB-4FF9-B0DB-9D783BCB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BC1B7-FA8B-4D0B-9BBA-3B32CC6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21002-95E1-4792-A329-35672DA55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CD69-6BD4-46A4-A1EF-0BA11FB90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5538-D0A7-4783-88BB-FECED4E4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A21C-C18C-4B6B-8122-76AF800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E189-4FCF-48B9-B016-D3884366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24AD-EE6B-44EB-9566-A9B76F7B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2F6F-56BB-4BBB-B27A-66649656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7DE9-8BCA-447F-8441-51D8D6DF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0085-6082-4E68-9985-12140268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DC65-B8D8-4605-AC40-77C88647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8128-67AD-47F3-A153-3994431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A2F6-77EA-489E-BAF2-E86A9D8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0715-754A-4B1B-BF07-19B535DB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A034-5109-420A-9433-D52AE09144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DF361-782C-4D5C-A2C9-C8AFAE8989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A51D7-4EA9-4AF4-88C8-9C153D99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4D17D-F6FE-4C9D-B6BF-BF9FE4E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E461-62BF-4383-8AF8-E084E67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98806-9A53-4711-8473-D86E8DDC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7A6AF-8168-4C17-BD70-6416B778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9C2EC-62D2-4201-87BE-17BD5E4A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DD1BE-3A2E-4137-955F-EDFF7343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27E0F-326B-4C4E-B6E1-515F7EB1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0D713-E748-4676-8C57-0951878F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57FDB-BD99-4F4E-A10A-98E75B4E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77962-80A6-4C8B-A8B7-6DE96C6F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79486-ECA7-4E10-9B39-D452F2F671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343D-3080-4406-BC61-D6AC2408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647A-2C6A-44F2-B9FE-A64FDC4C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6076-70CC-4273-A63E-DFB3001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1AAE-24E4-4569-92A3-9A097825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3E17-3EBF-432F-AD60-BE8458F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FDEDB0-4ED9-4239-88AF-FD99EA4E1647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1AFD02D-A7CC-4147-A5F2-239F05CF4601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A0A8609-260B-434E-AA97-04A49D1A8845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298F41-A5D9-4E57-A388-280E82707092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633240" y="920880"/>
            <a:ext cx="8077320" cy="1487520"/>
            <a:chOff x="633240" y="920880"/>
            <a:chExt cx="8077320" cy="148752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633240" y="920880"/>
              <a:ext cx="8077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33240" y="920880"/>
              <a:ext cx="807732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00040" y="2571840"/>
            <a:ext cx="80726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GB" sz="2700" spc="-1" strike="noStrike">
                <a:solidFill>
                  <a:srgbClr val="ffffff"/>
                </a:solidFill>
                <a:latin typeface="Constantia"/>
              </a:rPr>
              <a:t>Protocollo d’Intes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Assessorato Sanità Regione Campania - Procura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Progetto Formazione Personale Vigilanza ASL Campa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D.ssa Lucia Marino Direttore SIML  Dipartimento Prevenzione ASL NA</a:t>
            </a: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 Cen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419640" y="5373720"/>
            <a:ext cx="248436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14240"/>
            <a:ext cx="464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4240" y="2857680"/>
            <a:ext cx="2143440" cy="7855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0" y="2643120"/>
            <a:ext cx="23576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Giustizia</a:t>
            </a:r>
            <a:r>
              <a:rPr b="0" lang="en-GB" sz="18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H="1">
            <a:off x="2785320" y="1785600"/>
            <a:ext cx="857880" cy="10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>
            <a:off x="5429160" y="1856880"/>
            <a:ext cx="929520" cy="715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457200" y="1935000"/>
            <a:ext cx="82296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danno inizio a un percorso nuovo condiviso mettendo in comu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esperien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is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nform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57120" y="71424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Solo attraverso la conoscenza del territorio e la competenza degli operatori si può attuare una vera strategia della sicurezza e programmare azioni di sinergia incisive ed efficaci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abbattimento  dei ris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riduzione  dell’incidenza  degli  infort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riduzione  delle  malattie 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la realizzazione  di un sistema  di sicurezza organizzata che garantisca pienamente la tutela della salute e della sicurezza dei lav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42960" y="2000160"/>
            <a:ext cx="75866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5400" spc="-1" strike="noStrike">
                <a:solidFill>
                  <a:srgbClr val="0070c0"/>
                </a:solidFill>
                <a:latin typeface="Edwardian Script ITC"/>
              </a:rPr>
              <a:t>Grazie  per 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Convegno Reg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20 e 21 maggio 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egione Campania – Assessorato alla San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“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CUREZZA E’ SINERGIA ISTITUZIONA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Nell’ambito del convegno è stato sottoscritto un Protocollo di Intesa condiviso dalla Procura Generale della Repubblica di Napoli e dall’Assessorato alla Sanità della Regione Camp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Sinergie Istituzion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La collaborazione istituzionale, sancita dal Protocollo di Intesa assolverà a varie funzioni e tra l’altro è stato messo a punto e pianificata un’attività formativa rivolta agli operatori delle ASL impegnati nelle attività di Prevenzione e Vigilanza degli ambienti di lavoro di tutta la Regione Campan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vigil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l decreto 81/2008 e le successive modifiche introdotte dal D. Lgs. 106/09 confermano che la vigilanza sull’applicazione della legislazione in materia di salute e sicurezza dei luoghi di lavoro è a carico della Azienda Sanitaria Locale competente per territorio, pertanto è necessario che al personale dei servizi di vigilanza delle ASL venga assicurata una opportunità di confronto sia istituzionale sia tra tutti gli operatori regional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Struttura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l corso che tutt’ora si sta svolgendo è rivolto a un totale di 250 operatori e suddiviso in 4 moduli di 50 persone ciascuno per un totale di 150 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norma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mpianti-cantieri-appal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ischi chimici, biologici e fis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ttività di vigilanza e la qualifica di U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Destina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Gli operatori del sistema sanitario nazionale della Regione Campania dipendenti dei servizi PSAL e SIML dei Dipartimenti di Prevenzione delle ASL che svolgono attività di vigilanza in materia di tutela di salute e sicurezza dei lavoratori con funzioni di polizia giudizi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Med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Chim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ngegn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TP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L’iniziativa di questo protocollo di intesa è innovativa in Italia e punta ad ottenere una sinergia tra istituzioni deputate ad arginare il fenom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“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danno da lavoro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( infortuni e malattie professional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a con un’azione di contras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a con un’azione di prevenzi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Questa collaborazione istituzionale assolve a varie funzion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Garantire al personale delle ASL un corretto aggior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sicurare un’uniformità di orientamenti su tutto il territorio reg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Potenziare l’azione dei singoli attori attraverso un coordinamento istitu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Valorizzare la sinergia tra prevenzione e re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 realizza così un Coordinamento t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egione-ASL  e Procu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che trasforma l’esperienza collaborativa già esistente, ma limitatamente alla repressione dei reati in tema di tutela di salute e sicurezza dei luoghi di lavoro, in una collaborazione stabile attraverso un </a:t>
            </a:r>
            <a:r>
              <a:rPr b="1" lang="en-GB" sz="2600" spc="-1" strike="noStrike">
                <a:solidFill>
                  <a:srgbClr val="0b5395"/>
                </a:solidFill>
                <a:latin typeface="Constantia"/>
              </a:rPr>
              <a:t>travaso di esperienze e una osmosi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tra le istituzioni prepos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giurid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operativi della vigil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6043</cp:lastModifiedBy>
  <cp:revision>0</cp:revision>
  <dc:subject/>
  <dc:title>Osservatorio Napoli Città Sicura 21 e 22 gennaio 2010</dc:title>
</cp:coreProperties>
</file>